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2D7-606D-41A4-923D-4C21665A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E8E-2BC1-47F6-B6E1-2849517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4E1-EC14-4F55-A5A9-10B5F9AC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631-3F3B-466B-B8D3-13E5033F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15F6-B30F-43AE-8152-AC0BD0CB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4808-6B65-4F8B-8244-B8634113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CBC8-4485-460F-88BF-273ACCE1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12DA-AD31-4FB0-9F3D-A01157F1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8FE-FBA8-455E-A236-594EF600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055-75C4-47AB-B5C2-82C40509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ED53-4792-48FA-9CE8-72EAF7F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36E-ADFC-4552-AEFD-C6287320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608-F79D-4D16-B3E2-189F262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3E35-DE51-4D32-8B3D-724EA55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5E6-4A4D-4A90-99C4-7D53013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4569-6019-4FCD-BA11-550043DF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6603-CAC8-4951-8096-DBCDCBCB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211-22E0-4C8F-8A08-39C2851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837-C4B5-43BB-ABCA-EB1EA85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7E1-1AAE-4CC0-B853-36855C70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9C8-6ACC-44D4-942F-2D5780DC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C4F-6FB1-4559-BAB6-8652E0F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B81-3D2A-41AB-8F56-E8D373A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3CA-7B6A-47F9-9ED1-82CC8E8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31D-D7C3-4069-B6EE-0B141F12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990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ED25-D6A9-4D71-A5AA-E30D388B3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838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uess The Cove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26665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ek 2 Word Wall 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house is made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of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brick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28920" y="2819520"/>
            <a:ext cx="2695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I have a bal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219320"/>
            <a:ext cx="762120" cy="914400"/>
          </a:xfrm>
          <a:prstGeom prst="rect">
            <a:avLst/>
          </a:prstGeom>
          <a:solidFill>
            <a:srgbClr val="4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11430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I have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bal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49546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45720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t the word as the arrow points to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26665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u did an amazing Job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0280" y="1581120"/>
            <a:ext cx="34668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45720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book is big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9907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he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book is big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2603520"/>
            <a:ext cx="37180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My dog has black and white spot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447920"/>
            <a:ext cx="1523880" cy="1143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My dog has black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and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white spot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30520" y="2525760"/>
            <a:ext cx="2660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We go to schoo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06668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We go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o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schoo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360864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house is made of brick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1057320" cy="99036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8-06-19T19:58:23Z</dcterms:modified>
  <cp:revision>8</cp:revision>
  <dc:subject/>
  <dc:title>Storybook Adventure</dc:title>
</cp:coreProperties>
</file>